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D50-52E9-46DB-AD52-AE72DA7F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E23-CC57-416D-A1EE-98381582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543-34A3-4E59-9C54-BD37F1D1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9CF-0915-427B-9DD9-D836504C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68A5-7D06-4044-9B14-E02AEB86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7BE-74D2-49D1-9473-0718E49A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073-888C-4AD3-BF98-91160EE2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46E-D031-4855-A130-3F850A49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1ED-198F-4DC3-9E33-7643B20F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7C5-37A9-4E4A-814C-73F78C49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886-26EF-4E60-97CC-5F22C9B2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8623-2299-40C6-8E3B-F644D0E4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08D5-BFD1-4022-BF31-7F05AA6EE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iketrails.com/88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438280" y="-1276200"/>
            <a:ext cx="13984200" cy="8134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946680"/>
            <a:ext cx="822960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Jeremy Edmonson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de the New 25-M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ain Bike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terans’ Pa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838080"/>
            <a:ext cx="6143760" cy="1089000"/>
          </a:xfrm>
          <a:prstGeom prst="rect">
            <a:avLst/>
          </a:prstGeom>
        </p:spPr>
        <p:txBody>
          <a:bodyPr wrap="none" lIns="90000" rIns="90000" tIns="46800" bIns="46800" anchor="t">
            <a:prstTxWarp prst="textCurveUp">
              <a:avLst>
                <a:gd name="adj" fmla="val 15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e Play in the Dirt</a:t>
            </a:r>
            <a:endParaRPr b="0" lang="en-US" sz="4000" spc="-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943600"/>
            <a:ext cx="914400" cy="9144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4343400"/>
            <a:ext cx="914400" cy="27432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752400"/>
            <a:ext cx="80010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9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Day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de Along B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 0.03329 0.06 0.06259 0.137 0.06393 C 0.198 0.06659 0.248 0.05061 0.249 0.03063 C 0.249 0.01065 0.2 -0.00799 0.138 -0.00932 C 0.107 -0.00932 0.079 -0.00666 0.059 0 C 0.03 0.00932 0.013 0.02397 0.013 0.04129 C 0.013 0.05061 0.018 0.05993 0.027 0.06792 C 0.048 0.08523 0.089 0.09722 0.136 0.09855 C 0.191 0.10122 0.236 0.08657 0.236 0.06925 C 0.237 0.05061 0.192 0.03463 0.137 0.03196 C 0.109 0.03196 0.084 0.03463 0.065 0.03995 C 0.04 0.04928 0.024 0.06393 0.024 0.07858 C 0.024 0.08657 0.029 0.09456 0.037 0.10255 C 0.056 0.1172 0.092 0.12918 0.135 0.13052 C 0.185 0.13185 0.225 0.11853 0.225 0.10255 C 0.226 0.08657 0.186 0.07192 0.136 0.07058 C 0.111 0.06925 0.088 0.07192 0.071 0.07724 C 0.048 0.08523 0.035 0.09722 0.035 0.11187 C 0.035 0.11853 0.039 0.12652 0.046 0.13318 C 0.063 0.1465 0.096 0.15715 0.134 0.15848 C 0.179 0.15848 0.215 0.14783 0.215 0.13318 C 0.215 0.11853 0.18 0.10521 0.135 0.10388 C 0.113 0.10388 0.092 0.10654 0.077 0.11054 C 0.056 0.1172 0.044 0.12918 0.043 0.14117 C 0.043 0.14783 0.048 0.15449 0.054 0.15982 C 0.069 0.17313 0.099 0.18246 0.133 0.18246 C 0.173 0.18379 0.206 0.17446 0.206 0.16115 C 0.207 0.14783 0.174 0.13584 0.134 0.13451 C 0.114 0.13451 0.095 0.13584 0.082 0.14117 C 0.063 0.1465 0.052 0.15715 0.052 0.16781 C 0.052 0.17446 0.055 0.17979 0.061 0.18512 C 0.075 0.19711 0.101 0.2051 0.132 0.20643 C 0.169 0.20643 0.198 0.19844 0.198 0.18645 C 0.199 0.17446 0.17 0.16381 0.133 0.16248 C 0.115 0.16248 0.099 0.16381 0.087 0.16781 C 0.07 0.17313 0.06 0.18246 0.06 0.19311 C 0.06 0.19844 0.063 0.20243 0.068 0.20776 C 0.08 0.21841 0.104 0.22507 0.132 0.2264 C 0.165 0.22774 0.191 0.21975 0.191 0.20776 C 0.191 0.19844 0.166 0.18778 0.133 0.18778 C 0.116 0.18645 0.101 0.18911 0.09 0.19178 C 0.075 0.19711 0.066 0.2051 0.066 0.21442 C 0.066 0.21975 0.069 0.22374 0.074 0.22774 C 0.085 0.23706 0.107 0.24372 0.131 0.24505 C 0.161 0.24638 0.185 0.23839 0.185 0.22907 C 0.185 0.21841 0.161 0.21042 0.132 0.20909 C 0.118 0.20909 0.104 0.21042 0.094 0.21442 C 0.08 0.21841 0.072 0.22507 0.072 0.2344 C 0.072 0.23839 0.075 0.24239 0.079 0.24638 C 0.089 0.25437 0.108 0.26103 0.131 0.26103 C 0.157 0.26236 0.179 0.2557 0.179 0.24638 C 0.179 0.23839 0.158 0.2304 0.131 0.2304 C 0.119 0.22907 0.106 0.2304 0.097 0.23306 C 0.085 0.23839 0.078 0.24505 0.078 0.25171 C 0.078 0.2557 0.08 0.2597 0.084 0.26236 C 0.093 0.27035 0.11 0.27568 0.131 0.27701 C 0.155 0.27701 0.174 0.27035 0.174 0.26369 C 0.174 0.2557 0.155 0.24771 0.131 0.24771 C 0.119 0.24771 0.108 0.24905 0.101 0.25171 C 0.089 0.25437 0.083 0.26103 0.083 0.26769 C 0.083 0.27035 0.085 0.27435 0.088 0.27701 C 0.096 0.285 0.112 0.289 0.13 0.29033 C 0.152 0.29033 0.169 0.285 0.169 0.27834 C 0.169 0.27035 0.152 0.26503 0.131 0.26369 C 0.12 0.26369 0.11 0.26503 0.103 0.26769 C 0.093 0.27035 0.087 0.27568 0.087 0.28234 C 0.087 0.285 0.089 0.28767 0.092 0.29033 E">
                                      <p:cBhvr>
                                        <p:cTn id="8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at sun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a 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25:02Z</dcterms:created>
  <dc:creator>759670</dc:creator>
  <dc:description/>
  <dc:language>en-US</dc:language>
  <cp:lastModifiedBy>759670</cp:lastModifiedBy>
  <dcterms:modified xsi:type="dcterms:W3CDTF">2009-03-31T15:42:55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